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742557"/>
        <c:axId val="67558724"/>
      </c:barChart>
      <c:catAx>
        <c:axId val="507425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558724"/>
        <c:crosses val="autoZero"/>
        <c:auto val="1"/>
        <c:lblAlgn val="ctr"/>
        <c:lblOffset val="100"/>
        <c:noMultiLvlLbl val="0"/>
      </c:catAx>
      <c:valAx>
        <c:axId val="675587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7425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40B8-B1A3-450E-AE01-9A3A7F2B6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7A04-DB83-49EF-B083-5AE8D512C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2283-3CB2-4933-893F-7D249D37E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1F0F-89B7-40EA-9F83-2803298E6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7EAA-19FC-408B-87AF-70A464634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35FE-16C8-4EB8-AC9A-61A2BC6AD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B4A5-EFF7-4B36-A31B-A332DC8E9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8756-3A03-4E05-86B1-0E50DF957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5BBE-CE6E-4309-AF80-65F294F24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9EE6-5D90-43D9-862D-38EA4A902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47F6-38B8-4874-9C35-D14A9B9D9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22CE-DFA2-4549-B0EC-146EF6E1D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D4ACF3-71BE-484F-8EDA-F4E271798E3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