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66130"/>
        <c:axId val="78168839"/>
      </c:barChart>
      <c:catAx>
        <c:axId val="79566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68839"/>
        <c:crosses val="autoZero"/>
        <c:auto val="1"/>
        <c:lblAlgn val="ctr"/>
        <c:lblOffset val="100"/>
        <c:noMultiLvlLbl val="0"/>
      </c:catAx>
      <c:valAx>
        <c:axId val="78168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66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163-E171-4E75-89FC-6CF9AB66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B7C-6CA7-49A1-9204-6B4CD92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1CA-E256-4DE5-988C-58C9F09F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EAE-6B2F-4DEA-A861-A973E3AA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81E-18B3-4D54-8D1E-3EA3ECD3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D17-DEB3-4E9B-A83E-234B71C0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A10-28BE-4557-AA00-43B77FC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4AD-4B9A-46E8-9A8B-4DE19E5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AE1-60F9-4E68-BCD7-E97A521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FD0-D63C-464A-8025-025E7C8C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BD6-1382-41E1-9BEB-BF9EC01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2E7-0E55-402B-B1FD-B83FE67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1087B-C490-4A0F-91E4-7C4799C426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