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83012"/>
        <c:axId val="58811807"/>
      </c:barChart>
      <c:catAx>
        <c:axId val="26983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11807"/>
        <c:crosses val="autoZero"/>
        <c:auto val="1"/>
        <c:lblAlgn val="ctr"/>
        <c:lblOffset val="100"/>
        <c:noMultiLvlLbl val="0"/>
      </c:catAx>
      <c:valAx>
        <c:axId val="58811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83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2ED-988F-4BF9-A2E5-3DD0C2E2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35F-E20A-4276-A481-B4F1AEC4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896-B97D-4CC1-8B75-EAB0ACFF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FC2-3B83-4871-A3C2-1264A08D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0C2-0E97-4642-99C6-E7759CEF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C78-D5BC-4103-A865-5E944B9B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F8D-C75F-4BAB-A188-638FF45A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50E-4B9A-411C-AEF8-3533F275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486-636E-4587-9B91-D5C5E4EC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CE0-43DE-48A2-803D-5AC7CFAE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589-2B04-40E9-8F8E-195F32D3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802-D9F3-43D0-9D8E-1464E051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C1F54-663D-4764-BC1E-1B1C9B58E7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