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55283"/>
        <c:axId val="75761444"/>
      </c:barChart>
      <c:catAx>
        <c:axId val="13455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61444"/>
        <c:crosses val="autoZero"/>
        <c:auto val="1"/>
        <c:lblAlgn val="ctr"/>
        <c:lblOffset val="100"/>
        <c:noMultiLvlLbl val="0"/>
      </c:catAx>
      <c:valAx>
        <c:axId val="75761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55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6BC-1F61-45EB-8929-D8CFFBB8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A17-941F-431F-8AE3-BEC733A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FE4-09F3-481A-A40F-78511F5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EDE-6D0D-45C8-93DA-36C5D386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0E2-8197-4558-9541-16F6AE1E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A2D-E8FE-40EC-B7ED-292D027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194-DA08-484B-A6D9-5ECF64B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31A-D3C1-4D73-BDA4-0FE8E7D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75F-B3F2-445E-8CCE-2F889529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C0D-0677-45D2-B68A-B429E17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542-4FE3-4381-924E-9CF1D15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63D-6D6F-488C-A2AA-C1F022F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779D0-499B-4E8F-B998-4EA485F1E6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