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25182"/>
        <c:axId val="54549398"/>
      </c:barChart>
      <c:catAx>
        <c:axId val="55625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49398"/>
        <c:crosses val="autoZero"/>
        <c:auto val="1"/>
        <c:lblAlgn val="ctr"/>
        <c:lblOffset val="100"/>
        <c:noMultiLvlLbl val="0"/>
      </c:catAx>
      <c:valAx>
        <c:axId val="54549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25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B57-B864-49D0-BB91-06ECD571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7CF-0B21-4956-BCBA-ECE93F55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BC6-5468-475E-8383-FA01BEA2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9285-B388-406E-9A19-5FAC6D2B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9FD5-90E8-4553-9793-47DED410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A51-8BA9-4C6B-A1DE-5345E266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4876-0DD0-49ED-B328-4D96402B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D43-AAA1-4C53-8DF1-78F05478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C5C-21EB-4EDA-BE3C-BDB6AF87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4B8B-E0D9-41A9-9BFA-2DAF4C48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FFF-E05C-450B-933B-1CC414DB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634-D6C2-44DF-8AE9-FC4A15E6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52C2B-B921-467B-A6ED-2FA69DCCC9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