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76952"/>
        <c:axId val="74650517"/>
      </c:barChart>
      <c:catAx>
        <c:axId val="75776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50517"/>
        <c:crosses val="autoZero"/>
        <c:auto val="1"/>
        <c:lblAlgn val="ctr"/>
        <c:lblOffset val="100"/>
        <c:noMultiLvlLbl val="0"/>
      </c:catAx>
      <c:valAx>
        <c:axId val="74650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76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7AA-18A5-45CC-91A9-68705A3B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6D0-8DAC-497B-BF08-011648BF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13A-C365-4545-97BA-0AD9435C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8B2-A017-41A1-A250-CED9898D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432-D5A5-4B54-BF0F-ADE36D49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B6C-F33A-44AA-AE95-1BB57BE6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FD9-28DF-4052-B847-96B6E6DD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85E-8EB7-4760-9AA9-016B1FA2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BFF-C58D-4164-AABF-E87ECE4B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B8A-5D04-4049-8274-E4A90B5A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737-11FD-4971-AC1A-93C25CAB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C6B-A857-4FA1-A2A3-647ED425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A00D0-0E7E-4BC0-8F76-FCF1E190CA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