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51565"/>
        <c:axId val="28330572"/>
      </c:barChart>
      <c:catAx>
        <c:axId val="18551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30572"/>
        <c:crosses val="autoZero"/>
        <c:auto val="1"/>
        <c:lblAlgn val="ctr"/>
        <c:lblOffset val="100"/>
        <c:noMultiLvlLbl val="0"/>
      </c:catAx>
      <c:valAx>
        <c:axId val="28330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51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3BD-3285-40E2-B3D9-61E81DF5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EEA-8C9E-4829-891A-D782AD21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3EB-9E54-45C2-AFB5-DDFA0B2C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C08-903D-4571-A871-D538B109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9A0-F144-4EBA-B0C6-09681B99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F6D-A970-450C-99D0-A6769FB7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530-067E-43F0-B3C5-C59942F0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33B-933D-4E60-8898-F4D28980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29F-578B-4CFF-8E3B-FB7221CA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442-CC48-4C09-8D3B-F1A2B787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A76-1110-4529-AB31-4D8A6F8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911-8795-4C93-A08C-AECF7032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DBC32-26B6-408D-8A59-7647AE729B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