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38678"/>
        <c:axId val="76005801"/>
      </c:barChart>
      <c:catAx>
        <c:axId val="80238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05801"/>
        <c:crosses val="autoZero"/>
        <c:auto val="1"/>
        <c:lblAlgn val="ctr"/>
        <c:lblOffset val="100"/>
        <c:noMultiLvlLbl val="0"/>
      </c:catAx>
      <c:valAx>
        <c:axId val="76005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8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016-EE8D-4F54-8BD4-E6A58F29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294-A082-4AC8-A266-71497AC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034-F613-41E9-8009-1DC6DBC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72A-2267-4801-BDFB-50B9BF2A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EE8-F3A6-4FD5-8FF2-FC3371E7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EF5-1DFF-4092-9FB7-42B140E3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166-9C2E-4F4D-B999-E7541D22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D5E-9EF0-4506-A01F-2F1D8F0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579-FD45-448B-BD25-0F7F4E71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955-254A-46C9-AEA3-BBF11C9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8DC-293A-435B-ABDE-B990D95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02F-52A7-4D19-8A2B-0A230CD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ED2FF-AD30-4D2E-8DC0-B0378FDF2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