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526092"/>
        <c:axId val="40350649"/>
      </c:barChart>
      <c:catAx>
        <c:axId val="47526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50649"/>
        <c:crosses val="autoZero"/>
        <c:auto val="1"/>
        <c:lblAlgn val="ctr"/>
        <c:lblOffset val="100"/>
        <c:noMultiLvlLbl val="0"/>
      </c:catAx>
      <c:valAx>
        <c:axId val="40350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26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8E02-C3A6-44C0-A6EE-5AE6B53C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C68-ED42-4AE0-8F55-867559C5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8DA-B3A0-4DDB-8325-E53AB6F5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BDC-EB24-424D-8353-B4AA82AF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B3B-2EE5-4F02-A5E8-4405A990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A74-A52D-446C-BA37-4393C434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BBF-2E6E-4D59-B054-EC5AFE2E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181-CE59-49A6-A207-9E4B2021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11C-6F95-435C-9E56-A01B6DF5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E32-6115-4323-BF0D-128EF4A7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52E-B981-4846-8378-E7B5D643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F82-2F9E-4E67-B8A4-B771DE9B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01549-74A0-401C-8850-453FF2F9D3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