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60059"/>
        <c:axId val="37399470"/>
      </c:barChart>
      <c:catAx>
        <c:axId val="18860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99470"/>
        <c:crosses val="autoZero"/>
        <c:auto val="1"/>
        <c:lblAlgn val="ctr"/>
        <c:lblOffset val="100"/>
        <c:noMultiLvlLbl val="0"/>
      </c:catAx>
      <c:valAx>
        <c:axId val="37399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60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95D-F1F2-4AED-8CC5-351CF0D6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A64-E588-40B3-8241-3050AEE6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799-79E9-4D87-B9A3-AD047E12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240-B5BD-4BDE-9534-A67C54CD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7CF-E0E7-425E-B3B4-AD30568B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058-1A7E-414E-BC30-AAB25698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871-D450-4571-9217-E77D8730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215-72C0-4BEE-A4ED-37F6733D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D08-4E58-49C1-A279-70FFB85A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B72-0D53-40F3-8D09-EC88BCA0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CAC-EA5C-4BE0-859D-EBD824A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9F2-AB1D-42A3-8768-4259E242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3D0B7-8875-400D-8C10-78D180653A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