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11379"/>
        <c:axId val="1816174"/>
      </c:barChart>
      <c:catAx>
        <c:axId val="27711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6174"/>
        <c:crosses val="autoZero"/>
        <c:auto val="1"/>
        <c:lblAlgn val="ctr"/>
        <c:lblOffset val="100"/>
        <c:noMultiLvlLbl val="0"/>
      </c:catAx>
      <c:valAx>
        <c:axId val="1816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11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B26-7ACD-4D73-9B5A-9F776812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25D-E131-4D1F-9CE0-D1A22A23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264-0D33-4F1E-B3EC-BF8AFD12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A0B-36F9-4E6D-A3D3-28ADDA07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A5A-E1E8-46AA-8A4B-6FC06928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704-8D5F-4E6B-BF0E-B6E4D5D7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773-C95D-4FDF-B341-E96FFFCA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8B7-F0E4-450B-BE2F-01445FFB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265-9D5F-4328-B4DE-CA0B0129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B74-5063-4947-8462-0A5EBA30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00C-F1CE-4308-A207-0D3C1859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E67-41C9-46D0-A56A-BEA363B6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76444-C3A2-48D9-AF95-85A8B1C63F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