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185638"/>
        <c:axId val="73780112"/>
      </c:barChart>
      <c:catAx>
        <c:axId val="571856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780112"/>
        <c:crosses val="autoZero"/>
        <c:auto val="1"/>
        <c:lblAlgn val="ctr"/>
        <c:lblOffset val="100"/>
        <c:noMultiLvlLbl val="0"/>
      </c:catAx>
      <c:valAx>
        <c:axId val="737801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1856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FD4E-C4CE-4C9A-8CD5-8186EDC82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CEB7-3B4A-4480-A79D-6864CED0B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D698-5AEA-4C3E-AFAC-3861FF311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D051-D081-4E60-94CF-DE3B191E7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69CA-9F50-44B5-B803-A5BE010D1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F227-B4E5-4554-ABC0-2B2AF45F8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757A-474D-4B39-AEBC-3B04789F4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527D-FC28-4E07-A9FC-01A1458B9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C5FD-558C-43EF-AE88-C3A12B8C8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8980-E7B4-4E00-A1B2-814F10CC1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82AF-4C84-4B6E-8CC4-85D7753A0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254C-4148-4875-AC56-15B5B5CF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6232E6-2E62-4014-9842-CFEF3BF4BB9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