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36709"/>
        <c:axId val="53344128"/>
      </c:barChart>
      <c:catAx>
        <c:axId val="42836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44128"/>
        <c:crosses val="autoZero"/>
        <c:auto val="1"/>
        <c:lblAlgn val="ctr"/>
        <c:lblOffset val="100"/>
        <c:noMultiLvlLbl val="0"/>
      </c:catAx>
      <c:valAx>
        <c:axId val="53344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36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E84-C615-4E5E-88B5-11973984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141-9A04-4AF3-9682-D533CE6E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BD9-6F22-4A6D-97DD-FB53FF2D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347-1619-41B0-94F1-DD44BB53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BC0-8E75-44F2-805D-B6421924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46E-C8D0-44AD-A12D-4631BEAC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A4D-17F0-4671-8BF7-78DBF59B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07C-0637-41CB-B852-512C99C3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D2D-DF33-41A7-8BF0-BD6751CF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F21-AEE2-4C7C-9782-CF92F872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EEE-2246-479C-820B-F11D34DB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4D8-4565-40B7-9F65-60A37632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53447-F9B6-44DD-BB6E-4C763EC8DE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