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641765"/>
        <c:axId val="39323869"/>
      </c:barChart>
      <c:catAx>
        <c:axId val="94641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23869"/>
        <c:crosses val="autoZero"/>
        <c:auto val="1"/>
        <c:lblAlgn val="ctr"/>
        <c:lblOffset val="100"/>
        <c:noMultiLvlLbl val="0"/>
      </c:catAx>
      <c:valAx>
        <c:axId val="39323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41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A57-D1A8-4A0C-96DF-EAD0F9F8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C38-170F-4489-B7BF-3BD4603C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1EA-D7DA-4335-9771-3F61EBB7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9773-E6A4-46C0-9226-D80A2DDF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A08E-B226-459D-9788-31241CA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5A7-CC36-4874-9B52-3D452091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65A-3EC4-42C6-8A91-1C56F916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CD8-F5EF-4671-9985-77642385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9388-9DC0-47A3-8E26-B6C3CD8D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079-9054-44B8-A933-1DCA2D64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FC9-2B45-480E-87B9-14FAAFD0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36B-2414-48B5-ABE6-634982B5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D1919-9ACE-49CC-B273-DDDB5E3ABF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