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5194"/>
        <c:axId val="2743778"/>
      </c:barChart>
      <c:catAx>
        <c:axId val="29065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3778"/>
        <c:crosses val="autoZero"/>
        <c:auto val="1"/>
        <c:lblAlgn val="ctr"/>
        <c:lblOffset val="100"/>
        <c:noMultiLvlLbl val="0"/>
      </c:catAx>
      <c:valAx>
        <c:axId val="2743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5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26B-E006-41E6-8201-A40EC993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EC9-A39C-46E3-8E53-5F275C4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7BD-A4D2-46A6-A5BA-7F51D34C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3B5-A211-4D17-AF29-E79215FE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828-64A7-4E16-B908-5AC139F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E79-9194-4394-983C-6034CF25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8A0-E52A-4D8F-AB68-79A99FF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26C-4B15-431B-9D07-C515B57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7CA-225B-4228-8515-7010506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4C4-2557-481A-974B-B95B41DC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70E-646A-4C52-BE44-B805173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3A6-4831-4793-9205-F9B46F5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32502-D77F-48DB-A306-8AF9B5BA5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