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33950"/>
        <c:axId val="79113888"/>
      </c:barChart>
      <c:catAx>
        <c:axId val="37833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13888"/>
        <c:crosses val="autoZero"/>
        <c:auto val="1"/>
        <c:lblAlgn val="ctr"/>
        <c:lblOffset val="100"/>
        <c:noMultiLvlLbl val="0"/>
      </c:catAx>
      <c:valAx>
        <c:axId val="79113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33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3CA-BB7F-4899-8E66-C3E96B40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941-BBE4-4A54-B80D-3817216E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D88-587C-4E60-A686-E2D4F381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A0B-DB27-4216-B693-10368547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DAF-400B-4255-8A2A-4DB2EC1A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CED-1DF2-47EC-AB97-E0031A58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7D9-E63A-4FD8-86AA-A152C770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CE6-75F6-4CD8-B2D6-613992AC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D24-E310-41AC-AC73-8FD587F5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5B9-1CB2-409B-9C2F-C74F9B09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C39-6733-4FBE-A7A7-DE0B53E7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20B-DB9E-46E0-B9D8-9112435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0CB4B-8071-4AEB-99D0-92040FF846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