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21345"/>
        <c:axId val="63824044"/>
      </c:barChart>
      <c:catAx>
        <c:axId val="58621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24044"/>
        <c:crosses val="autoZero"/>
        <c:auto val="1"/>
        <c:lblAlgn val="ctr"/>
        <c:lblOffset val="100"/>
        <c:noMultiLvlLbl val="0"/>
      </c:catAx>
      <c:valAx>
        <c:axId val="63824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21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059-3FED-4150-A570-360FEB06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4AF-EFCE-4B87-AE60-D380D22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F04-F846-49B0-A86F-6501E6BC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7E2-2759-4C15-8E4C-A43FEFE5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E95-3C86-4FF1-ACF0-9E5BEF6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656-DF3B-4BFC-AFEE-308ED10F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23E-B22E-46BD-BEFE-C126763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DF8-020D-4C38-89B7-F269CC28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EEF-53AD-4ED1-BDD0-4F16B2C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FF1-D64F-4F53-9EFE-DF74AB5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1ED-A15E-48F9-AD4D-0773648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7F2-3631-47A8-AED2-765172E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D2D8-185A-4F1C-8CDD-FCB02F1A2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