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2385231"/>
        <c:axId val="64677187"/>
      </c:barChart>
      <c:catAx>
        <c:axId val="2238523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4677187"/>
        <c:crosses val="autoZero"/>
        <c:auto val="1"/>
        <c:lblAlgn val="ctr"/>
        <c:lblOffset val="100"/>
        <c:noMultiLvlLbl val="0"/>
      </c:catAx>
      <c:valAx>
        <c:axId val="6467718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238523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47FB3-FEDE-4DD2-909D-B118A3EB8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B2848-1C9D-4CD0-86CC-912702D0B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DC544-27AE-4A8F-AB14-97E0BC7CE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7C6D2-3391-4FB8-9210-01CA2196B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B39BB-BC40-406E-BA51-79EF1CAC0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03895-CAA2-43C9-B843-674FB8CEE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592A8-0AA1-4BEC-9C65-D1ED2BBA0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90961-DA70-4EC6-8A59-20E5177C3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E7444-B77E-4ACA-8398-58F2ED297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BF8F2-CC64-4625-9722-B493810E8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D8DE1-02CD-47B2-808B-9CE686A13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BA2F8-84C5-4544-AC94-8B48A4008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766B4A-64F2-4F3F-AAD3-FAF4FA8743B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