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06137"/>
        <c:axId val="87663856"/>
      </c:barChart>
      <c:catAx>
        <c:axId val="52606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63856"/>
        <c:crosses val="autoZero"/>
        <c:auto val="1"/>
        <c:lblAlgn val="ctr"/>
        <c:lblOffset val="100"/>
        <c:noMultiLvlLbl val="0"/>
      </c:catAx>
      <c:valAx>
        <c:axId val="87663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6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20A-AF38-443B-A3BB-DF01347E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89E-D142-4EC7-BE74-5DC5A7E6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78F-C228-4403-B175-D5F9D9E0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E19-5A7A-40A7-8903-551F9FED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E66-6471-41FD-9B57-013B2C9C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C4A-FD24-47D7-8CDF-E381079E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653-9071-4611-84E0-F520DE8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DC3-EC48-4E17-B263-4204C5AB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AE2-82F3-4C4D-BD8C-FE344B6E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32B-2681-4851-96B3-9813008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203-8B6D-4034-A614-02C37428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A82-CC85-4B33-BD13-837AD4D1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36850-4D78-47E1-B362-E826E2D25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