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59880"/>
        <c:axId val="66373416"/>
      </c:barChart>
      <c:catAx>
        <c:axId val="89059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73416"/>
        <c:crosses val="autoZero"/>
        <c:auto val="1"/>
        <c:lblAlgn val="ctr"/>
        <c:lblOffset val="100"/>
        <c:noMultiLvlLbl val="0"/>
      </c:catAx>
      <c:valAx>
        <c:axId val="663734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59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D3F-D0E9-4987-9CE7-833DCDE9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0D1-B9CE-489F-862C-45C5D955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6E25-60E6-4B80-87E9-0E53064F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F9D-BE3B-4B87-8385-1C5C0C8C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EEA-BDFB-4B05-A7FA-BA91515D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8A1-2F82-44D5-BD71-5B7AE518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0C8-50C3-4E2C-A4DB-1A54A987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7F5-3FEF-4A59-A3DB-69383D53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08B-E406-48CE-9C3F-00046A14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B53-C355-468A-B262-F55C0DD0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8B4-A80A-41D8-99BA-646A1950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418-770A-4A36-BF35-FD22A07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B3E6D-6130-4DCD-BA63-C380CE6B67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