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820959"/>
        <c:axId val="41122272"/>
      </c:barChart>
      <c:catAx>
        <c:axId val="508209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22272"/>
        <c:crosses val="autoZero"/>
        <c:auto val="1"/>
        <c:lblAlgn val="ctr"/>
        <c:lblOffset val="100"/>
        <c:noMultiLvlLbl val="0"/>
      </c:catAx>
      <c:valAx>
        <c:axId val="411222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209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74A5-0BE6-4290-82E7-5027F3A5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2A08-168B-432C-A908-6A33096D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2FE3-CFF0-47C0-A14F-23F83306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D48E-C834-48E4-9F92-160323E46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7B5B-19B4-442A-B44F-F40EB497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5193-4955-47B5-A82E-740A8E97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8678-0C0E-4CBA-8587-E5C5CDD5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ABE9-6CD3-44A7-9309-18C68860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1602-5554-4291-A6F2-6479408E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45BB-3B8D-4666-A73D-2E7AE95B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BA6F-3365-47CF-843A-A8732517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2F75-9F48-4A99-B45B-DE043004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F83FE-9B31-46B7-829B-34DF12E66B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