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61099"/>
        <c:axId val="78980130"/>
      </c:barChart>
      <c:catAx>
        <c:axId val="869610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80130"/>
        <c:crosses val="autoZero"/>
        <c:auto val="1"/>
        <c:lblAlgn val="ctr"/>
        <c:lblOffset val="100"/>
        <c:noMultiLvlLbl val="0"/>
      </c:catAx>
      <c:valAx>
        <c:axId val="789801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610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0425-7F48-477B-ABC1-7C478DD8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4F67-6859-4BD9-AB49-904DD72F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0F33-A471-4A1D-AD5D-D8021428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4AC-DE61-42BF-908E-60850E38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4E8-1FA9-49EF-86C9-D66512FE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3505-4E98-4E29-91B3-566809DD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DC61-61DA-4DDB-9564-B01E2E88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ADA-92E0-4D85-93BC-EFBFD5A9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E65F-187A-40A5-92EC-21868F44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72F1-F334-43F4-B90C-5C31DABF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824-F2C0-4E87-8AFB-C3C39FD9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9DC-CE98-45AD-8C94-B764E05B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DDD32-885E-4AF5-AE05-05E0CE28E4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