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65660"/>
        <c:axId val="79244611"/>
      </c:barChart>
      <c:catAx>
        <c:axId val="36165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4611"/>
        <c:crosses val="autoZero"/>
        <c:auto val="1"/>
        <c:lblAlgn val="ctr"/>
        <c:lblOffset val="100"/>
        <c:noMultiLvlLbl val="0"/>
      </c:catAx>
      <c:valAx>
        <c:axId val="79244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5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230-E6ED-48A3-BDEB-F1DB9677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CBC-4199-4B51-88CB-E075E977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EA4-6891-477E-89BD-FB6014A2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6AB-F58D-454A-B425-67AB812E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349-1D34-4875-AB99-0913B0C1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4CF-A97D-45E3-99B6-DBCC0D8F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284-089F-48C5-9462-DAF2326D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750-E098-4D77-AC43-61FD0636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635-2CAC-4D4C-AE5B-ED7B6C7A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A33-DA53-42DD-AF7C-A1AD28B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FCA-E1C4-4917-B1FC-CDAF4B0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EE7-4BB2-4779-8A48-6F3020D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E46B8-A015-40F4-8D7D-9EC96227E0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